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1ECA-527C-4A42-A92A-1A67E44E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130F-6464-47DF-937D-8D9520C3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A8E-D3A5-4E49-A8F2-4AC9A46C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618B-E4CF-4982-8462-D57C0598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449A-A1B5-40E6-A7C2-636D7375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3FBD-6950-4945-985A-E022E40A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F7B6-400F-471C-AC6E-74399018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5320-CE73-4833-888E-FC5206E3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166C-3049-400D-8FB6-1EA5F18B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D32F-3754-4792-8C15-EF5303B3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DF8F-451B-4F53-B6A9-C7ECD2F0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C72-EFCA-4548-BDA2-0F7D215C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9B59-4A56-4574-8250-383C6C10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BE62-0881-4BD8-948C-7471E544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7331-B256-4344-BE49-038CCBD5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1045-C688-4CA9-9263-73209A5F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C62C-FF3C-48CB-AB78-736131B1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687-015F-4A91-A0C6-753DAC8F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E02E-9EE7-488F-923A-AB296810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823C-C8A5-49C7-AFA8-8471B09C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278C-92DE-45E9-8EAD-6EE6070E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F37-2319-4515-A1C8-C09FDA42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D855-3D1F-4848-9A4E-10BBE775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D9F-BA5A-4B37-A419-35ACA52F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5d8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E575-B830-4267-8145-9094BBF29311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7B65-E715-4D12-955E-81DD5D0B88EB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005d8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guzman@ing.uchile.cl" TargetMode="External"/><Relationship Id="rId2" Type="http://schemas.openxmlformats.org/officeDocument/2006/relationships/hyperlink" Target="mailto:sebagusi@hotmail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area #1 IN34A Otoño 20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8f8f8"/>
                </a:solidFill>
                <a:latin typeface="Arial"/>
              </a:rPr>
              <a:t>Sebastián Guzmán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guzman@ing.uchile.c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ebagusi@hotmail.co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emand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200 puertas simp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120 ventanas dob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Ventanas simples y puertas dobles tienen mercad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isponibilidad de recurso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Cantidad de madera 1000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de sierra 5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hombre de barnizado 7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49320" y="1981080"/>
          <a:ext cx="7660800" cy="4114440"/>
        </p:xfrm>
        <a:graphic>
          <a:graphicData uri="http://schemas.openxmlformats.org/drawingml/2006/table">
            <a:tbl>
              <a:tblPr/>
              <a:tblGrid>
                <a:gridCol w="1301400"/>
                <a:gridCol w="1767600"/>
                <a:gridCol w="1964160"/>
                <a:gridCol w="262764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Madera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m</a:t>
                      </a:r>
                      <a:r>
                        <a:rPr b="1" lang="en-US" sz="12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rt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maq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Barnizad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hombre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429000"/>
            <a:ext cx="7632720" cy="1584360"/>
          </a:xfrm>
          <a:prstGeom prst="rect">
            <a:avLst/>
          </a:prstGeom>
          <a:solidFill>
            <a:srgbClr val="00cc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1989000"/>
          <a:ext cx="7661160" cy="3753000"/>
        </p:xfrm>
        <a:graphic>
          <a:graphicData uri="http://schemas.openxmlformats.org/drawingml/2006/table">
            <a:tbl>
              <a:tblPr/>
              <a:tblGrid>
                <a:gridCol w="1981080"/>
                <a:gridCol w="2691000"/>
                <a:gridCol w="2989080"/>
              </a:tblGrid>
              <a:tr h="72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ecio venta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sto unitari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Variables de Decisión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X(p): cantidad de producto p a produci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p 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Є</a:t>
            </a: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 {p. doble, p. simple, v. doble, v. simple}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Función Objetiv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Restriccione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Satisfacer demanda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Disponibilidad de recurso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0" y="3645000"/>
                <a:ext cx="388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cio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651640" y="5661000"/>
                <a:ext cx="3024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o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51640" y="4869000"/>
                <a:ext cx="17539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d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Hoja de Cálc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400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6:18:06Z</dcterms:created>
  <dc:creator> </dc:creator>
  <dc:description/>
  <dc:language>en-US</dc:language>
  <cp:lastModifiedBy>Familia</cp:lastModifiedBy>
  <dcterms:modified xsi:type="dcterms:W3CDTF">2005-03-31T00:56:55Z</dcterms:modified>
  <cp:revision>15</cp:revision>
  <dc:subject/>
  <dc:title>Tarea #1 In34a</dc:title>
</cp:coreProperties>
</file>